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EB02-2EAB-4CEF-9417-5F7BE3DE5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38B3-DBAE-48F6-8CEA-20CBE7AF6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B483-D12F-4386-B903-61CAB83D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FD7-8763-46E0-A10F-B7E47B37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4D59-3F3F-4A81-A8B9-432FC068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A8D6-EFAE-43BA-A578-E3D64372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E5B6-033A-47B7-A3E4-9BD7F813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1A7A-B0C5-4EA4-8E88-CED21511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0D4-FCF2-41B5-8F5E-E2850544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5947-F0E6-4F65-8094-C17EAED2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D32E-6B9C-42A0-A1B3-6F90275C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C62-A43B-4CAB-BF95-8A8BAF19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0FF-DB05-48CC-97A7-70BCE3BC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21BE-5B58-4296-8EA9-A880FCF6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5DBE-CA30-471E-AF30-AE8120929AA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Универзите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рагујевцу</a:t>
            </a: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Факулте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медицински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наука</a:t>
            </a: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Интегрисане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академске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студије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медицине</a:t>
            </a: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Физикална медицина и рехабилит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2209320"/>
            <a:ext cx="86104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ви мод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Четврто предав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98989"/>
                </a:solidFill>
                <a:latin typeface="Verdana"/>
              </a:rPr>
              <a:t>ЕЛЕКТРОТЕРАПИЈА</a:t>
            </a:r>
            <a:br>
              <a:rPr sz="3200"/>
            </a:br>
            <a:r>
              <a:rPr b="1" lang="sr-Latn-CS" sz="3200" spc="-1" strike="noStrike">
                <a:solidFill>
                  <a:srgbClr val="898989"/>
                </a:solidFill>
                <a:latin typeface="Verdana"/>
              </a:rPr>
              <a:t>-</a:t>
            </a:r>
            <a:r>
              <a:rPr b="1" lang="sr-CS" sz="3200" spc="-1" strike="noStrike">
                <a:solidFill>
                  <a:srgbClr val="898989"/>
                </a:solidFill>
                <a:latin typeface="Verdana"/>
              </a:rPr>
              <a:t>Наизменичне струје</a:t>
            </a:r>
            <a:r>
              <a:rPr b="1" lang="sr-Latn-CS" sz="3200" spc="-1" strike="noStrike">
                <a:solidFill>
                  <a:srgbClr val="898989"/>
                </a:solidFill>
                <a:latin typeface="Verdana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цент др Весна Грбовић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320"/>
            <a:ext cx="116496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Транскутана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електрична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стимулација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ТЕНС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4382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лује изразито аналгетс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рапи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gate contro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ор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тојај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ндоген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ијатн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опијатн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стем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тизањ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алгетск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фекта:ендорфини и енкефал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Наизменичне струје </a:t>
            </a:r>
            <a:br>
              <a:rPr sz="3200"/>
            </a:b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средње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фреквенције (</a:t>
            </a:r>
            <a:r>
              <a:rPr b="1" lang="sr-C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преко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1000 </a:t>
            </a:r>
            <a:r>
              <a:rPr b="1" lang="sr-Latn-R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Hz</a:t>
            </a:r>
            <a:r>
              <a:rPr b="1" lang="sr-R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нтерферентне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емец</a:t>
            </a:r>
            <a:r>
              <a:rPr b="1" lang="sr-Latn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тру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инусоидно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одулисане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трује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Руска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тимулација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Интерферентне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струје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ИФ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Ф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искофреквент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изменич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ру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нусоидн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ли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настају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ендогено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кивим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рференциј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перпозициј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редњефреквентни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ру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мостал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руј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зли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реквенци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нос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0-1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Ф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бија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крштањ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рујни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ин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редњефреквент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зличит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реквенци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ст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ачи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редств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еноме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рференц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ст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кршта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ста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биостру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реквенц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гова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злиц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реквенци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мпонентни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ру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т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ов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“</a:t>
            </a:r>
            <a:r>
              <a:rPr b="1" lang="sr-CS" sz="2400" spc="-1" strike="noStrike">
                <a:solidFill>
                  <a:srgbClr val="cc0000"/>
                </a:solidFill>
                <a:latin typeface="Calibri"/>
              </a:rPr>
              <a:t>укрштене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cc0000"/>
                </a:solidFill>
                <a:latin typeface="Calibri"/>
              </a:rPr>
              <a:t>стру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Интерферентне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трује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реквенц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дн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рујн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л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ве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стан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нос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4000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Хз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руг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рујн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л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реквенц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аријабил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нос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3900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до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4000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Хз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4000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до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4100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Хз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бије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ру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Ф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онстант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итмичк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ња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спо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100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Хз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и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реквенц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ру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нзите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рференц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ксимал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рференц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100%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рнут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Физиолошки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ефекат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ИФ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238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1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10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Х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дражај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уромишић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ст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азивајућ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шић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тракц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1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50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Хз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лу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имулатив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1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100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Х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разит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офичк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тиедематоз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алгетски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фек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60 до 100 Хз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стимулишу коштано зарастање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ру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итмичк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реквенц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90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100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Х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мпатиколитичк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алгетичк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Сумирани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биолошки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e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фекти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ИФ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240" y="6854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тимулативн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рвоток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зазивајућ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вазодилатаци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од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љо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крвљено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кигенаци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рж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страњивањ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окси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дијато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налгетск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љ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иркулац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ксигенац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јст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рв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вршетк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већавај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адражљивос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проводљивос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ериферни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ера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лу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имулатив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штеће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рв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нхибиторн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импатикус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тимулиш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арасимпатик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убрзавај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лимфоток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сорпци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дем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бољшавај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трофик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имулиш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раста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стимулишу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стварање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калуса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код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фрактура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ењај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вреднос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лкално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нтиинфламаторн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брзавајућ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иркулаци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таболиза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сорпци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тимулативн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пречн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угаст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глатк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ишић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влак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Calibri"/>
              </a:rPr>
              <a:t>Дозирање</a:t>
            </a:r>
            <a:r>
              <a:rPr b="1" lang="sr-Latn-C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ff0000"/>
                </a:solidFill>
                <a:latin typeface="Calibri"/>
              </a:rPr>
              <a:t>ИФ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јачин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труј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бјектив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фреквен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з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јагноз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ужин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трајањ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апликациј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ну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Број</a:t>
            </a:r>
            <a:r>
              <a:rPr b="1" lang="sv-S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третмана</a:t>
            </a:r>
            <a:r>
              <a:rPr b="1" lang="sv-SE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граничен</a:t>
            </a: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Calibri"/>
              </a:rPr>
              <a:t>Индикације</a:t>
            </a:r>
            <a:r>
              <a:rPr b="1" lang="sr-Latn-C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ff0000"/>
                </a:solidFill>
                <a:latin typeface="Calibri"/>
              </a:rPr>
              <a:t>за</a:t>
            </a:r>
            <a:r>
              <a:rPr b="1" lang="sr-Latn-C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ff0000"/>
                </a:solidFill>
                <a:latin typeface="Calibri"/>
              </a:rPr>
              <a:t>ИФ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9480" y="121896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трауматск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нтуз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сторз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уксац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шта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лом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њихо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мпликац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сеудоартроз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б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дек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ервикал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умбал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y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уралг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уритиси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л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вре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жива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ртритис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ртроз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б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ехтерев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АХС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,ванзлобни реуматиз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б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ирге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б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ј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Високофреквентна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стру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дстављ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изменичн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руј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фреквенциј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300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кХз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ФС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дстављ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специфични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облик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термотерапи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квир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г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рист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оплот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ста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тварање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ff0000"/>
                </a:solidFill>
                <a:latin typeface="Calibri"/>
              </a:rPr>
              <a:t>конверзиј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лектричн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ј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псорбовал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оплот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ворен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рганизм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вај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чин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зив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ендогеном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топлот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т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ста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ми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киви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злик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гзоген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оплот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ј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елу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пољ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ж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0000"/>
                </a:solidFill>
                <a:latin typeface="Calibri"/>
              </a:rPr>
              <a:t>ВФС-ДИЈАТЕР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ДИЈАТЕРМИЈ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је међународно усвојен термина за медицинску примену ВФ струј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одразумева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ТОПЛОТУ,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која је створена претварањем високофр. енергије у ткивима кроз која пролази, а која се  користи у терапијске сврх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НАИЗМЕНИЧНЕ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СТРУ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изменичне струје карактеришу се променом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авца и интензитет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они и друге наелектрисане честице у организму, када се нађу у колу наизменичне струје, неизменично мењају правац кретања од једне ка другој електроди, тако да им је амплитуда кретања врло кратка, а код струје са високом фреквенцијом они практично осцилују у мест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ВФС</a:t>
            </a:r>
            <a:br>
              <a:rPr sz="3600"/>
            </a:b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Краткоталасна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дијатермија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560" y="160020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едставља најчешће коришћен облик ВФ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алас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ужин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2,12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1,06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реквенција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,56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MHz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7,12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да високофреквентна струја, одн.електромагнетне осцилације делују на ткива организма, због изузетно кратког трајања сваке осцилације, изостаје кретање јона и поларизовано наелектрисаних дипол молекула, јер су приморани да 27 милиона пута у секунди промене смер свог кретања тако да само осцилују у месту, сударају се међусобно и узрокују настанак топло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о је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ендогена топлота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ја настаје услед међусобног трења између јона и дипол молеку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Calibri"/>
              </a:rPr>
              <a:t>Дејства</a:t>
            </a:r>
            <a:r>
              <a:rPr b="1" lang="sr-Latn-C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ff0000"/>
                </a:solidFill>
                <a:latin typeface="Calibri"/>
              </a:rPr>
              <a:t>ВФ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7724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-133560">
              <a:spcBef>
                <a:spcPts val="70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0000"/>
                </a:solidFill>
                <a:uFillTx/>
                <a:latin typeface="Calibri"/>
              </a:rPr>
              <a:t>Примарно</a:t>
            </a:r>
            <a:r>
              <a:rPr b="1" lang="sr-Latn-CS" sz="28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sr-CS" sz="2800" spc="-1" strike="noStrike" u="sng">
                <a:solidFill>
                  <a:srgbClr val="ff0000"/>
                </a:solidFill>
                <a:uFillTx/>
                <a:latin typeface="Calibri"/>
              </a:rPr>
              <a:t>дејство</a:t>
            </a:r>
            <a:r>
              <a:rPr b="1" lang="sr-Latn-CS" sz="28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мичк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3560" indent="-133560">
              <a:spcBef>
                <a:spcPts val="70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0000"/>
                </a:solidFill>
                <a:uFillTx/>
                <a:latin typeface="Calibri"/>
              </a:rPr>
              <a:t>Секундарна</a:t>
            </a:r>
            <a:r>
              <a:rPr b="1" lang="sr-Latn-CS" sz="2800" spc="-1" strike="noStrike" u="sng">
                <a:solidFill>
                  <a:srgbClr val="ff0000"/>
                </a:solidFill>
                <a:uFillTx/>
                <a:latin typeface="Calibri"/>
              </a:rPr>
              <a:t>  </a:t>
            </a:r>
            <a:r>
              <a:rPr b="1" lang="sr-CS" sz="2800" spc="-1" strike="noStrike" u="sng">
                <a:solidFill>
                  <a:srgbClr val="ff0000"/>
                </a:solidFill>
                <a:uFillTx/>
                <a:latin typeface="Calibri"/>
              </a:rPr>
              <a:t>деј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3560" indent="-1335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иркулаци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3560" indent="-1335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рв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ист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3560" indent="-1335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шић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3560" indent="-1335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зи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3560" indent="-1335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таболиза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нзимск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тив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3560" indent="-1335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актериостатичк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актерицид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3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Физиолошко – биолошко деј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Деловање на циркулацију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: условљено је рефлексно, а изражава се вазодилатацијом, типа реактивне хиперемије. Услед вазодилатације долази до артеријске, венске и лимфне циркулације. Настаје већи прилив артеријске крви, брже отицање венске крви и лимфе, што омогућава ресопцију екстравазата и елиминацију метаболи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Деловање на нервни систем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: изражава се аналгетичким и седативним деловањем, као и повећањем брзине проводљивости периферних нера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Деловање на мишић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: изражава се одсуством надражаја мишића и постизањем релакс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Calibri"/>
              </a:rPr>
              <a:t>Физиолошко – биолошко дејст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Деловање на везивно ткиво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: изражава се повећањем истегљивости колагена у везивном ткиву, као и у ожиљном везивном тки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sr-RS" sz="2400" spc="-1" strike="noStrike">
                <a:solidFill>
                  <a:srgbClr val="ff0000"/>
                </a:solidFill>
                <a:latin typeface="Calibri"/>
              </a:rPr>
              <a:t>Деловање на метаболизам и ензимску активност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: изражено је у знатној мери у смислу његовог повећањ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раст температуре праћен је убрзањем хемијских реакција, а тиме и повећањем метаболиз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већање метаболизма захтева већи прилив кисеоника и хранљивих материја, што доводи и до повећаног стварања метаболи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нзимска активност је повећана, посебно у синовијалним ћелијама и фибробласт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Електрод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а КТД и методе приме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8ed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58ed5"/>
                </a:solidFill>
                <a:latin typeface="Calibri"/>
              </a:rPr>
              <a:t>КТД се примењује помоћ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) електрода за кондензационо поље, као биполарна техни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дензаторно поље се ствара између 2 кондензатора. Кондензатори су сачињени од металних плоча које су обложене неким изолатором (стакло, гум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аклене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лектроде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лифаке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(електрич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лочаст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умен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ббов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лектрод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(магнетно поље)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) Електроде за електромагнетно поље, као монополарна тех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оље се загревају мишићи, док загревање органа у дубини изоста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) Калем електроде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тављају на 1 до 5 цм од т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лем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лектроде: монода и мин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ристе се за локална деловања на ограниченој површини и дуби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(до 4цм) посебно је подесна за загревање мускулатуре, третирање приступачних површно положених зглобова, периартикуларних структура, бурзи и и других површина, загревање параназалних шупљина, малих површина на глав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 вра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Индукциони</a:t>
            </a:r>
            <a:r>
              <a:rPr b="1" lang="sv-S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абл</a:t>
            </a:r>
            <a:r>
              <a:rPr b="1" lang="sv-S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sv-S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вод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ристи се за обмотавање ектремитета или за апликацију у облику пљоснатог калема у специјалној филцаној навлац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р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ти пажњу да је вод слободан при укључивању јер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же доћи до високофреквентног кратког спој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азива хиперемиј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343400" y="369576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34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Calibri"/>
              </a:rPr>
              <a:t>Дозирањ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52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зира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нзите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ш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ватима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мал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з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нос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00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з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главн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ређу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прем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субјективном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ећањ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есни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ем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ећ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јат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лаг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оплот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висно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нзите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раче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мењива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ледећ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з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Calibri"/>
              </a:rPr>
              <a:t>Атермичк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осећ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топло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Calibri"/>
              </a:rPr>
              <a:t>Олиготермичк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осећ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благ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топло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Calibri"/>
              </a:rPr>
              <a:t>Термичка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осећ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ријатн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топлот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Calibri"/>
              </a:rPr>
              <a:t>Хипертермичк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осећ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јак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топлот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ем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аја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пликац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нос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5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2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ну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0000"/>
                </a:solidFill>
                <a:latin typeface="Calibri"/>
              </a:rPr>
              <a:t>КТД-ДОЗИРАЊ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АВИЛО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је да се код акутних стадијума процеса примењује слабије загревање, краћег трајања, на други или трећи д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д хроничних стања је загревање јаче, дужег трајања, сваки дан, бр. сеанси већ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ПОРУКА: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пацијента пре сваке сеансе питати о субјективним тегобама везаним за претходну сеансу и на основу тога одредити нову доз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Calibri"/>
              </a:rPr>
              <a:t>Индикације</a:t>
            </a:r>
            <a:r>
              <a:rPr b="1" lang="sr-Latn-C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ff0000"/>
                </a:solidFill>
                <a:latin typeface="Calibri"/>
              </a:rPr>
              <a:t>за</a:t>
            </a:r>
            <a:r>
              <a:rPr b="1" lang="sr-Latn-C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ff0000"/>
                </a:solidFill>
                <a:latin typeface="Calibri"/>
              </a:rPr>
              <a:t>КТ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уматс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роничн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адијум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а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вред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окомоторн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пара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узе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утни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ра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уралг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уритис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ронич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о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р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нусити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тити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инеколош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ронич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специфич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паљењс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днекси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раметри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лпинги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дхез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инеколошки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ерац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мар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кундар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ерилите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ронич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специфич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лућ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ронич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ронхити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неумон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ксудативн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леурити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лућ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бсце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же:фурункулоз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рбунку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идроаденити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ра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уралг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урити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Наизменичне</a:t>
            </a:r>
            <a:r>
              <a:rPr b="1" lang="en-GB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стру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712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ниск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о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1000 </a:t>
            </a:r>
            <a:r>
              <a:rPr b="1" lang="sr-Latn-R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z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фарадска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б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транскутана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електришна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урална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имулација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ЕНС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редњ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преко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1000 </a:t>
            </a:r>
            <a:r>
              <a:rPr b="1" lang="sr-Latn-R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z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средње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е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- 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интерферентне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мец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б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инусоидно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одулисане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Руска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имулација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3.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Високофреквентн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преко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100.000 </a:t>
            </a:r>
            <a:r>
              <a:rPr b="1" lang="sr-Latn-R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z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Д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'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Арсонвализација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100.000 </a:t>
            </a:r>
            <a:r>
              <a:rPr b="1" lang="sr-Latn-R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Hz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б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Дуготаласна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јатермија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500.000- 1.000.000 </a:t>
            </a:r>
            <a:r>
              <a:rPr b="1" lang="sr-Latn-R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Hz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ц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Краткоталасна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јатермија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КТД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10-100 </a:t>
            </a:r>
            <a:r>
              <a:rPr b="1" lang="sr-Latn-R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д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R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У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лтракраткоталасна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јатермија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434,78 </a:t>
            </a:r>
            <a:r>
              <a:rPr b="1" lang="sr-Latn-R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Hz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е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R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икроталасна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јатермија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2.450 </a:t>
            </a:r>
            <a:r>
              <a:rPr b="1" lang="sr-Latn-R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Hz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00"/>
                </a:solidFill>
                <a:latin typeface="Calibri"/>
              </a:rPr>
              <a:t>Контраиндикације</a:t>
            </a:r>
            <a:r>
              <a:rPr b="1" lang="sr-Latn-CS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ff0000"/>
                </a:solidFill>
                <a:latin typeface="Calibri"/>
              </a:rPr>
              <a:t>за</a:t>
            </a:r>
            <a:r>
              <a:rPr b="1" lang="sr-Latn-CS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ff0000"/>
                </a:solidFill>
                <a:latin typeface="Calibri"/>
              </a:rPr>
              <a:t>КТ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кутн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апаљењ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Фебрилн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тањ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алигни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умори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уберкулоз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клоност ка крварењ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енструац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етални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едмети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есту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имене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рудноћ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цаве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бортус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блитерирајући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ндартеритис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ремећај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нзибилитет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ермичке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драж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000000"/>
                </a:solidFill>
                <a:uFillTx/>
                <a:latin typeface="Calibri"/>
              </a:rPr>
              <a:t>Мере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CS" sz="4400" spc="-1" strike="noStrike" u="sng">
                <a:solidFill>
                  <a:srgbClr val="000000"/>
                </a:solidFill>
                <a:uFillTx/>
                <a:latin typeface="Calibri"/>
              </a:rPr>
              <a:t>предострожности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Забрањен улаз особама са ПАЦЕМАК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Пацијент не мора да скида одећу, осим уколико има синтетичку (зној се у пољу ВФ струје значајно загрева, опасност од опекоти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Уклонити металне предмете из подручја деловања КТ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Кревет и столица који се користе при примени КТД не смеју бити од мет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Пацијенту објаснити да треба да осећа благу топлоту при апликацији КТ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 Пацијенту објаснити да се не помера у току сеан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Каблови електрода се не смеју укрштати и додиривати (кратак спој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. Пацијента снабдети гајтаном којим се искључује терапијско-пацијентово ко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. Здравствени радник у току сеансе не сме напустити просторију са пацијен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Calibri"/>
              </a:rPr>
              <a:t>Наизменичне струје ниске фреквенције (1-1000</a:t>
            </a:r>
            <a:r>
              <a:rPr b="1" lang="sr-Latn-RS" sz="3600" spc="-1" strike="noStrike">
                <a:solidFill>
                  <a:srgbClr val="ff0000"/>
                </a:solidFill>
                <a:latin typeface="Calibri"/>
              </a:rPr>
              <a:t>Hz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АРАДСКА СТРУ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ОФАРАДСКА СТРУ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АНСКУТАНА ЕЛЕКТРИЧНА НЕРВНА СТИМУЛАЦИЈА (ТЕН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00"/>
                </a:solidFill>
                <a:latin typeface="Calibri"/>
              </a:rPr>
              <a:t>Фарадска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ff0000"/>
                </a:solidFill>
                <a:latin typeface="Calibri"/>
              </a:rPr>
              <a:t>стру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арадеј 1831. годи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симетриј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регуларност цикл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сторијск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нача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762120" y="1904760"/>
            <a:ext cx="4038120" cy="4525920"/>
            <a:chOff x="762120" y="1904760"/>
            <a:chExt cx="4038120" cy="4525920"/>
          </a:xfrm>
        </p:grpSpPr>
        <p:sp>
          <p:nvSpPr>
            <p:cNvPr id="60" name="Line 7"/>
            <p:cNvSpPr/>
            <p:nvPr/>
          </p:nvSpPr>
          <p:spPr>
            <a:xfrm>
              <a:off x="798480" y="4642200"/>
              <a:ext cx="400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 flipV="1">
              <a:off x="762120" y="1919880"/>
              <a:ext cx="0" cy="256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V="1">
              <a:off x="762840" y="1904760"/>
              <a:ext cx="0" cy="265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939600" y="3164400"/>
              <a:ext cx="376560" cy="243648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2436480"/>
                <a:gd name="textAreaBottom" fmla="*/ 2436840 h 2436480"/>
              </a:gdLst>
              <a:ahLst/>
              <a:rect l="textAreaLeft" t="textAreaTop" r="textAreaRight" b="textAreaBottom"/>
              <a:pathLst>
                <a:path w="360" h="1410">
                  <a:moveTo>
                    <a:pt x="0" y="960"/>
                  </a:moveTo>
                  <a:cubicBezTo>
                    <a:pt x="75" y="480"/>
                    <a:pt x="150" y="0"/>
                    <a:pt x="180" y="60"/>
                  </a:cubicBezTo>
                  <a:cubicBezTo>
                    <a:pt x="210" y="120"/>
                    <a:pt x="150" y="1230"/>
                    <a:pt x="180" y="1320"/>
                  </a:cubicBezTo>
                  <a:cubicBezTo>
                    <a:pt x="210" y="1410"/>
                    <a:pt x="330" y="720"/>
                    <a:pt x="360" y="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11"/>
            <p:cNvSpPr/>
            <p:nvPr/>
          </p:nvSpPr>
          <p:spPr>
            <a:xfrm>
              <a:off x="1426320" y="2350440"/>
              <a:ext cx="170280" cy="330228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3302280"/>
                <a:gd name="textAreaBottom" fmla="*/ 3302640 h 3302280"/>
              </a:gdLst>
              <a:ahLst/>
              <a:rect l="textAreaLeft" t="textAreaTop" r="textAreaRight" b="textAreaBottom"/>
              <a:pathLst>
                <a:path w="210" h="2010">
                  <a:moveTo>
                    <a:pt x="0" y="1350"/>
                  </a:moveTo>
                  <a:cubicBezTo>
                    <a:pt x="90" y="675"/>
                    <a:pt x="180" y="0"/>
                    <a:pt x="180" y="90"/>
                  </a:cubicBezTo>
                  <a:cubicBezTo>
                    <a:pt x="180" y="180"/>
                    <a:pt x="0" y="1770"/>
                    <a:pt x="0" y="1890"/>
                  </a:cubicBezTo>
                  <a:cubicBezTo>
                    <a:pt x="0" y="2010"/>
                    <a:pt x="150" y="870"/>
                    <a:pt x="180" y="810"/>
                  </a:cubicBezTo>
                  <a:cubicBezTo>
                    <a:pt x="210" y="750"/>
                    <a:pt x="180" y="1440"/>
                    <a:pt x="180" y="1530"/>
                  </a:cubicBezTo>
                  <a:cubicBezTo>
                    <a:pt x="180" y="1620"/>
                    <a:pt x="180" y="1380"/>
                    <a:pt x="180" y="135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12"/>
            <p:cNvSpPr/>
            <p:nvPr/>
          </p:nvSpPr>
          <p:spPr>
            <a:xfrm>
              <a:off x="2760120" y="3055680"/>
              <a:ext cx="437040" cy="2493720"/>
            </a:xfrm>
            <a:custGeom>
              <a:avLst/>
              <a:gdLst>
                <a:gd name="textAreaLeft" fmla="*/ 0 w 437040"/>
                <a:gd name="textAreaRight" fmla="*/ 437400 w 437040"/>
                <a:gd name="textAreaTop" fmla="*/ 0 h 2493720"/>
                <a:gd name="textAreaBottom" fmla="*/ 2494080 h 2493720"/>
              </a:gdLst>
              <a:ahLst/>
              <a:rect l="textAreaLeft" t="textAreaTop" r="textAreaRight" b="textAreaBottom"/>
              <a:pathLst>
                <a:path w="540" h="1920">
                  <a:moveTo>
                    <a:pt x="0" y="1320"/>
                  </a:moveTo>
                  <a:cubicBezTo>
                    <a:pt x="75" y="660"/>
                    <a:pt x="150" y="0"/>
                    <a:pt x="180" y="60"/>
                  </a:cubicBezTo>
                  <a:cubicBezTo>
                    <a:pt x="210" y="120"/>
                    <a:pt x="180" y="1590"/>
                    <a:pt x="180" y="1680"/>
                  </a:cubicBezTo>
                  <a:cubicBezTo>
                    <a:pt x="180" y="1770"/>
                    <a:pt x="150" y="570"/>
                    <a:pt x="180" y="600"/>
                  </a:cubicBezTo>
                  <a:cubicBezTo>
                    <a:pt x="210" y="630"/>
                    <a:pt x="330" y="1920"/>
                    <a:pt x="360" y="1860"/>
                  </a:cubicBezTo>
                  <a:cubicBezTo>
                    <a:pt x="390" y="1800"/>
                    <a:pt x="330" y="330"/>
                    <a:pt x="360" y="240"/>
                  </a:cubicBezTo>
                  <a:cubicBezTo>
                    <a:pt x="390" y="150"/>
                    <a:pt x="510" y="1140"/>
                    <a:pt x="540" y="13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13"/>
            <p:cNvSpPr/>
            <p:nvPr/>
          </p:nvSpPr>
          <p:spPr>
            <a:xfrm>
              <a:off x="1818360" y="3231720"/>
              <a:ext cx="345240" cy="235188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360" h="2220">
                  <a:moveTo>
                    <a:pt x="0" y="1650"/>
                  </a:moveTo>
                  <a:cubicBezTo>
                    <a:pt x="75" y="855"/>
                    <a:pt x="150" y="60"/>
                    <a:pt x="180" y="30"/>
                  </a:cubicBezTo>
                  <a:cubicBezTo>
                    <a:pt x="210" y="0"/>
                    <a:pt x="180" y="1110"/>
                    <a:pt x="180" y="1470"/>
                  </a:cubicBezTo>
                  <a:cubicBezTo>
                    <a:pt x="180" y="1830"/>
                    <a:pt x="150" y="2160"/>
                    <a:pt x="180" y="2190"/>
                  </a:cubicBezTo>
                  <a:cubicBezTo>
                    <a:pt x="210" y="2220"/>
                    <a:pt x="330" y="1740"/>
                    <a:pt x="360" y="165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14"/>
            <p:cNvSpPr/>
            <p:nvPr/>
          </p:nvSpPr>
          <p:spPr>
            <a:xfrm>
              <a:off x="2368080" y="2703240"/>
              <a:ext cx="232920" cy="372744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3727440"/>
                <a:gd name="textAreaBottom" fmla="*/ 3727800 h 3727440"/>
              </a:gdLst>
              <a:ahLst/>
              <a:rect l="textAreaLeft" t="textAreaTop" r="textAreaRight" b="textAreaBottom"/>
              <a:pathLst>
                <a:path w="360" h="2520">
                  <a:moveTo>
                    <a:pt x="0" y="1410"/>
                  </a:moveTo>
                  <a:cubicBezTo>
                    <a:pt x="75" y="1965"/>
                    <a:pt x="150" y="2520"/>
                    <a:pt x="180" y="2310"/>
                  </a:cubicBezTo>
                  <a:cubicBezTo>
                    <a:pt x="210" y="2100"/>
                    <a:pt x="150" y="300"/>
                    <a:pt x="180" y="150"/>
                  </a:cubicBezTo>
                  <a:cubicBezTo>
                    <a:pt x="210" y="0"/>
                    <a:pt x="330" y="1200"/>
                    <a:pt x="360" y="14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Техника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приме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352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Стабилна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мето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Биполарн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ехник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лочастим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еталним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лектрода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Лабилна</a:t>
            </a:r>
            <a:r>
              <a:rPr b="1" lang="sv-SE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мето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онополарна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ехника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ктивна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лектрода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блику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аљка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блику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ање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еће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четке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Интензитет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се одређује индивидуално према субјективном осећају пацијента а време апликације је око 5 мину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Индикације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: нема регуларности, па се користи као ларвирана сугестивна терапија код психијатријских поремећаја, али на нивоу неуротских поремећај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Неофарадска</a:t>
            </a:r>
            <a:r>
              <a:rPr b="1" lang="sv-SE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стру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2438280" y="2438280"/>
            <a:ext cx="5791320" cy="1919520"/>
            <a:chOff x="2438280" y="2438280"/>
            <a:chExt cx="5791320" cy="1919520"/>
          </a:xfrm>
        </p:grpSpPr>
        <p:sp>
          <p:nvSpPr>
            <p:cNvPr id="72" name="Line 5"/>
            <p:cNvSpPr/>
            <p:nvPr/>
          </p:nvSpPr>
          <p:spPr>
            <a:xfrm>
              <a:off x="2468160" y="4321440"/>
              <a:ext cx="576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4684320" y="3060720"/>
              <a:ext cx="242640" cy="125100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1251000"/>
                <a:gd name="textAreaBottom" fmla="*/ 1251360 h 1251000"/>
              </a:gdLst>
              <a:ahLst/>
              <a:rect l="textAreaLeft" t="textAreaTop" r="textAreaRight" b="textAreaBottom"/>
              <a:pathLst>
                <a:path w="228" h="798">
                  <a:moveTo>
                    <a:pt x="0" y="798"/>
                  </a:moveTo>
                  <a:cubicBezTo>
                    <a:pt x="38" y="399"/>
                    <a:pt x="76" y="0"/>
                    <a:pt x="114" y="0"/>
                  </a:cubicBezTo>
                  <a:cubicBezTo>
                    <a:pt x="152" y="0"/>
                    <a:pt x="209" y="665"/>
                    <a:pt x="228" y="79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6625080" y="3060720"/>
              <a:ext cx="242280" cy="125100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1251000"/>
                <a:gd name="textAreaBottom" fmla="*/ 1251360 h 1251000"/>
              </a:gdLst>
              <a:ahLst/>
              <a:rect l="textAreaLeft" t="textAreaTop" r="textAreaRight" b="textAreaBottom"/>
              <a:pathLst>
                <a:path w="228" h="798">
                  <a:moveTo>
                    <a:pt x="0" y="798"/>
                  </a:moveTo>
                  <a:cubicBezTo>
                    <a:pt x="38" y="399"/>
                    <a:pt x="76" y="0"/>
                    <a:pt x="114" y="0"/>
                  </a:cubicBezTo>
                  <a:cubicBezTo>
                    <a:pt x="152" y="0"/>
                    <a:pt x="209" y="665"/>
                    <a:pt x="228" y="79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>
              <a:off x="2683080" y="3060720"/>
              <a:ext cx="242280" cy="125100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1251000"/>
                <a:gd name="textAreaBottom" fmla="*/ 1251360 h 1251000"/>
              </a:gdLst>
              <a:ahLst/>
              <a:rect l="textAreaLeft" t="textAreaTop" r="textAreaRight" b="textAreaBottom"/>
              <a:pathLst>
                <a:path w="228" h="798">
                  <a:moveTo>
                    <a:pt x="0" y="798"/>
                  </a:moveTo>
                  <a:cubicBezTo>
                    <a:pt x="38" y="399"/>
                    <a:pt x="76" y="0"/>
                    <a:pt x="114" y="0"/>
                  </a:cubicBezTo>
                  <a:cubicBezTo>
                    <a:pt x="152" y="0"/>
                    <a:pt x="209" y="665"/>
                    <a:pt x="228" y="79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9"/>
            <p:cNvSpPr/>
            <p:nvPr/>
          </p:nvSpPr>
          <p:spPr>
            <a:xfrm flipV="1">
              <a:off x="2438280" y="2438280"/>
              <a:ext cx="0" cy="19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8"/>
          <p:cNvSpPr/>
          <p:nvPr/>
        </p:nvSpPr>
        <p:spPr>
          <a:xfrm>
            <a:off x="1600200" y="4648320"/>
            <a:ext cx="67816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мпул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ауз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ри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дијагностичк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сврх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Неофарадска</a:t>
            </a:r>
            <a:r>
              <a:rPr b="1" lang="sv-SE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стру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лује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дражајно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нзитивне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торне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рве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таничк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нтракција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Примењује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ласично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ктродијагностиц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абил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арадиза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сихоген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ремећа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стерије 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нурез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Транскутана</a:t>
            </a:r>
            <a:r>
              <a:rPr b="1" lang="sv-SE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електрична</a:t>
            </a:r>
            <a:r>
              <a:rPr b="1" lang="sr-Latn-C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нервна</a:t>
            </a:r>
            <a:r>
              <a:rPr b="1" lang="sr-Latn-C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стимулација</a:t>
            </a:r>
            <a:r>
              <a:rPr b="1" lang="sr-Latn-CS" sz="3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sv-SE" sz="36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ТЕНС</a:t>
            </a:r>
            <a:r>
              <a:rPr b="1" lang="sv-SE" sz="36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320040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Импулси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ич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кети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7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о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атк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мпулс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мпул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а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0,05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0,4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реквенц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75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125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з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мпулс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оугл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авоугл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ифаз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нофа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2666880" y="1905120"/>
            <a:ext cx="4270320" cy="882360"/>
            <a:chOff x="2666880" y="1905120"/>
            <a:chExt cx="4270320" cy="882360"/>
          </a:xfrm>
        </p:grpSpPr>
        <p:sp>
          <p:nvSpPr>
            <p:cNvPr id="83" name="Line 5"/>
            <p:cNvSpPr/>
            <p:nvPr/>
          </p:nvSpPr>
          <p:spPr>
            <a:xfrm>
              <a:off x="2666880" y="2671920"/>
              <a:ext cx="427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6"/>
            <p:cNvSpPr/>
            <p:nvPr/>
          </p:nvSpPr>
          <p:spPr>
            <a:xfrm flipV="1">
              <a:off x="2682000" y="1905120"/>
              <a:ext cx="0" cy="76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2826720" y="2166120"/>
              <a:ext cx="144720" cy="6213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621360"/>
                <a:gd name="textAreaBottom" fmla="*/ 621720 h 62136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3261240" y="2166120"/>
              <a:ext cx="144360" cy="621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621360"/>
                <a:gd name="textAreaBottom" fmla="*/ 621720 h 62136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3369600" y="2166120"/>
              <a:ext cx="144360" cy="621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621360"/>
                <a:gd name="textAreaBottom" fmla="*/ 621720 h 62136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3514320" y="2166120"/>
              <a:ext cx="144720" cy="6213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621360"/>
                <a:gd name="textAreaBottom" fmla="*/ 621720 h 62136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3659040" y="2166120"/>
              <a:ext cx="144360" cy="621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621360"/>
                <a:gd name="textAreaBottom" fmla="*/ 621720 h 62136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5142960" y="2166120"/>
              <a:ext cx="144360" cy="621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621360"/>
                <a:gd name="textAreaBottom" fmla="*/ 621720 h 62136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13"/>
            <p:cNvSpPr/>
            <p:nvPr/>
          </p:nvSpPr>
          <p:spPr>
            <a:xfrm>
              <a:off x="3116160" y="2166120"/>
              <a:ext cx="144720" cy="6213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621360"/>
                <a:gd name="textAreaBottom" fmla="*/ 621720 h 62136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14"/>
            <p:cNvSpPr/>
            <p:nvPr/>
          </p:nvSpPr>
          <p:spPr>
            <a:xfrm>
              <a:off x="2971440" y="2166120"/>
              <a:ext cx="144360" cy="621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621360"/>
                <a:gd name="textAreaBottom" fmla="*/ 621720 h 62136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15"/>
            <p:cNvSpPr/>
            <p:nvPr/>
          </p:nvSpPr>
          <p:spPr>
            <a:xfrm>
              <a:off x="5251320" y="2166120"/>
              <a:ext cx="144720" cy="6213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621360"/>
                <a:gd name="textAreaBottom" fmla="*/ 621720 h 62136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16"/>
            <p:cNvSpPr/>
            <p:nvPr/>
          </p:nvSpPr>
          <p:spPr>
            <a:xfrm>
              <a:off x="5360040" y="2166120"/>
              <a:ext cx="144720" cy="6213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621360"/>
                <a:gd name="textAreaBottom" fmla="*/ 621720 h 62136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7"/>
            <p:cNvSpPr/>
            <p:nvPr/>
          </p:nvSpPr>
          <p:spPr>
            <a:xfrm>
              <a:off x="5504760" y="2166120"/>
              <a:ext cx="144360" cy="621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621360"/>
                <a:gd name="textAreaBottom" fmla="*/ 621720 h 62136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5613480" y="2166120"/>
              <a:ext cx="144360" cy="621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621360"/>
                <a:gd name="textAreaBottom" fmla="*/ 621720 h 62136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5721840" y="2166120"/>
              <a:ext cx="144360" cy="621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621360"/>
                <a:gd name="textAreaBottom" fmla="*/ 621720 h 62136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5034240" y="2166120"/>
              <a:ext cx="144360" cy="621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621360"/>
                <a:gd name="textAreaBottom" fmla="*/ 621720 h 62136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8:31:21Z</dcterms:created>
  <dc:creator>WIN98SE</dc:creator>
  <dc:description/>
  <dc:language>en-US</dc:language>
  <cp:lastModifiedBy>Vesna</cp:lastModifiedBy>
  <dcterms:modified xsi:type="dcterms:W3CDTF">2024-01-20T16:03:36Z</dcterms:modified>
  <cp:revision>51</cp:revision>
  <dc:subject/>
  <dc:title>NAIZMENIČNE STRUJE</dc:title>
</cp:coreProperties>
</file>